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0FC-38BA-4917-92E0-1413A533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9EA-8076-4AB6-BD75-B2EE1349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D10-09F8-426B-9852-50110532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5CA-B336-4A70-8B45-9C0E5526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949B-D438-459A-8B59-C8DA63C3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0675-A131-4FDF-8F46-5DB4B9A3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6D6D-9077-4C52-BDC7-B0FE1115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DF1B-D240-46B6-97B4-88A0E7E3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268F-08C3-47A4-9E73-22175BF9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7D9F-DB5F-4397-B83C-E5D064B3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9C6C-3D51-4C92-AB2B-2D76F1E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373-981A-456E-A461-FFBD04CE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4073-6ED8-4551-805F-777BE14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D066-E4EC-445C-BB21-2BB62468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7D75-791D-4C9E-81D3-ED2DE4C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D731-1560-4FA9-999D-1E88B355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0951-4B53-47C7-9FCF-8250DD61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FEE9-C656-42C5-8F6B-DB6FAFE8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675FA-CA7A-48AD-BB8C-2D426793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6722-0F7D-47C5-AD10-D7FB0C75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5CD2-6B20-48F4-801B-69CA3EB1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03FD-BB00-4144-AB25-E114CAD3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A3C-DE02-4287-A9EA-37EA4620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2921-F257-4BBB-8CB4-F944E51A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F5EB-B517-474F-B43D-953ACD0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318E-7A61-445F-8577-A666816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25C4-5DE2-4F45-AAD6-0B5859C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1345-4FE7-4975-800C-18672F17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B5CB-61D2-4096-AC68-6CC989DC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C9B3-0D8C-4328-B982-243EA245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3C69-DF1A-4B6E-9C83-4FD5BBA0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35CE-612C-4C9E-B6FD-75974A98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2EAAC-224A-4D12-AC0C-970E0859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CF4-D6C9-446B-A566-518413B2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3EED9-C8BD-40C7-B2B1-E1FD9273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E8C9-EDA4-49AD-B6A6-3A83460F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233B1-AF94-4512-BC01-E54ABED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663F-8204-48BF-A300-4360327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2783-9F22-47F8-BA6B-39E5DB0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F1AA-4C36-4C9B-B307-04A3BDEC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99D9-70A0-4195-A89B-E033A766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4DAB-1D34-4384-936E-61F4D96D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CAD2-B070-4506-9C5B-739A05CE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0428A-31B5-4335-A4CF-70B01C95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6F3-506F-466F-A8E4-0F364DB1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7F89-F088-4D1C-8772-D22017DF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7A6E-D81B-4A8A-86A6-4DA8376C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B477B-3D59-4041-8906-3F494FE2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93CEE-7A31-4571-A9A2-3777DC5C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75F0-AED3-4F11-8AA4-7331889A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4145-E77E-4E71-B348-3DC8C263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8224-CED7-4913-940C-7133627B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71300-8EA1-4E0C-A669-D4A49BF7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9CDCF-01A8-4026-8F39-1FAB0D6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AFE33-F936-447C-AC01-8D35A4EB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8A2-6207-4D45-9716-5D766350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BE6D-62F3-4113-8991-683BA579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7232C-0002-420C-B539-803F6281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B7763-7550-4FA5-9A0F-3A34A2A3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D82A-4121-4CAB-9567-7B7E55E2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672E-4371-4F6C-9CA1-DE45A7C9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9957-E82C-41D3-A046-F163A29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B2ADE-9325-4B28-8B4F-12091DB8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FEF03-BCB0-4649-8FBD-0DE8FD3A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144CF-116A-4738-ADC7-92C4401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30BEA-98E3-41B1-8F09-58DF639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C857-4947-42BF-BF25-9C408A6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2BFEF-742A-45E6-BB49-2B8B469C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93A57-7413-4AFE-9B3B-AD2E310C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1FE40-3A7F-4E9A-96E7-B180F61B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CA276-DC3C-4BF9-9D07-7F03724A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85B13-9FA7-4AA6-898A-21E17C7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8BF3-5C66-48F0-8649-35B05C74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C04F0-1ECF-4F57-B91A-20A3EDC7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BC8C0-D300-4EBE-A62B-EE40C845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0C0D5-C4B5-40D9-A025-3CD9040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C0359-42DE-4CD2-B0EC-5B09FDDB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B66-E08E-43FF-A3ED-F5C24A24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0113-CFC7-4407-89E2-6BAE7A1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C230-0FC8-4762-832E-9F05561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C4D42-1D5D-4BD4-9BBA-4077A92A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D15F-E37F-45F0-92E6-82E39A07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7ED65-8D19-4479-A49D-07940D88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A4E-ACFE-464C-B49C-49875D63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7E6-D134-46A5-941E-97B7B9D1D10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6560-E572-45DC-A979-E07FFA092CC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0DEA-FF1E-4E2F-B2F0-D8545571CE4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6C49-3837-4D5B-B1DD-002E490D5EF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CC0-1D7A-418F-A198-D89F6FD7490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915-90C7-4B37-8701-2A8616AB8FF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8B1E-397C-4AD9-8A75-168052D3CBE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1406160"/>
            <a:ext cx="7848720" cy="27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Candara"/>
              </a:rPr>
              <a:t>SS8 </a:t>
            </a:r>
            <a:br>
              <a:rPr sz="5900"/>
            </a:br>
            <a:br>
              <a:rPr sz="5900"/>
            </a:br>
            <a:r>
              <a:rPr b="0" lang="en-US" sz="5900" spc="-1" strike="noStrike">
                <a:solidFill>
                  <a:srgbClr val="ffffff"/>
                </a:solidFill>
                <a:latin typeface="Candara"/>
              </a:rPr>
              <a:t>Racism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A view based on previous ideas or opinions rather than on knowledge or facts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ejudic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 </a:t>
            </a: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Treating a particular group or individual differently or unfairly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iscrimina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Unfair treatment or act direct at a group or individual by a society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ocial injustic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The belief that one’s own culture is better than other cultures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ethnocentris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An image that represents all members of the group being the same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ereotyp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7720" y="26665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Mistreatment of people on the basis of race, place of origin, or ancestry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acis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37720" y="26665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Candara"/>
              </a:rPr>
              <a:t>Being/acting against the mistreatment of people on the basis of race, place of origin, or ancestry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nti-racis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12:47Z</dcterms:created>
  <dc:creator>ladmin</dc:creator>
  <dc:description/>
  <dc:language>en-US</dc:language>
  <cp:lastModifiedBy>ladmin</cp:lastModifiedBy>
  <dcterms:modified xsi:type="dcterms:W3CDTF">2014-11-18T23:42:31Z</dcterms:modified>
  <cp:revision>9</cp:revision>
  <dc:subject/>
  <dc:title>PowerPoint Presentation</dc:title>
</cp:coreProperties>
</file>